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4.wmf" ContentType="image/x-wmf"/>
  <Override PartName="/ppt/media/image25.jpeg" ContentType="image/jpeg"/>
  <Override PartName="/ppt/media/image2.png" ContentType="image/png"/>
  <Override PartName="/ppt/media/image32.png" ContentType="image/png"/>
  <Override PartName="/ppt/media/image10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40.wmf" ContentType="image/x-wmf"/>
  <Override PartName="/ppt/media/image35.png" ContentType="image/png"/>
  <Override PartName="/ppt/media/image5.jpeg" ContentType="image/jpeg"/>
  <Override PartName="/ppt/media/image36.jpeg" ContentType="image/jpeg"/>
  <Override PartName="/ppt/media/image11.jpeg" ContentType="image/jpeg"/>
  <Override PartName="/ppt/media/image31.jpeg" ContentType="image/jpeg"/>
  <Override PartName="/ppt/media/image41.png" ContentType="image/png"/>
  <Override PartName="/ppt/media/image43.png" ContentType="image/png"/>
  <Override PartName="/ppt/media/image44.wmf" ContentType="image/x-wmf"/>
  <Override PartName="/ppt/media/image46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6.jpeg" ContentType="image/jpeg"/>
  <Override PartName="/ppt/media/image4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5DD-9298-4019-B070-E18FF39C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846-739E-4E61-B163-E2AA7CCC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A2E-4615-4698-8C9E-60FC3E8A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5ED-AE68-4B05-B612-879E972D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26C-6082-4B49-81B6-732836B9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578-7ED6-46A4-BEAA-3EAD4429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B6A-F53F-42A8-AA3B-90307157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C35-9C04-4FE9-8BD2-904AF7C4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856-A408-496D-A311-79D53D79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5D2-C68A-4D7D-9840-0051B538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B9F-2522-496C-AFCD-466DB403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B5A-10BE-42D0-8FE8-3720824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2B07-E9D6-4216-946F-B2B69F2B4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wmf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228600" y="-2666880"/>
            <a:ext cx="16306920" cy="1013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-8424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1600200"/>
            <a:ext cx="7620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La Casa de Suenos</a:t>
            </a:r>
            <a:endParaRPr b="1" i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057400" y="3200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124080" y="32004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267080" y="32004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391520" y="0"/>
            <a:ext cx="1296720" cy="1298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270920" y="4876920"/>
            <a:ext cx="187308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5237280"/>
            <a:ext cx="2438280" cy="162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-152280"/>
            <a:ext cx="20574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ios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581280" cy="160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010280" y="152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16292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2286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523880" y="350532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6629400" y="3657600"/>
            <a:ext cx="6858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80880" y="289548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a800a8"/>
                  </a:solidFill>
                  <a:miter/>
                </a:ln>
                <a:solidFill>
                  <a:srgbClr val="60006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Blackadder ITC"/>
              </a:rPr>
              <a:t>Michaella Simonelli</a:t>
            </a:r>
            <a:endParaRPr b="1" i="1" lang="en-US" sz="6600" spc="1" strike="noStrike">
              <a:ln w="9360">
                <a:solidFill>
                  <a:srgbClr val="a800a8"/>
                </a:solidFill>
                <a:miter/>
              </a:ln>
              <a:solidFill>
                <a:srgbClr val="60006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80880" y="-379440"/>
            <a:ext cx="10896480" cy="8161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28600" y="914400"/>
            <a:ext cx="8763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 casa esta localizada en Venice,Italy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66880" y="3657600"/>
            <a:ext cx="2667240" cy="1771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648160" cy="1724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04920" y="439092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629400" y="4343400"/>
            <a:ext cx="1933560" cy="2371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800280"/>
            <a:ext cx="10667880" cy="800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295280" y="304920"/>
            <a:ext cx="586764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ristina"/>
              </a:rPr>
              <a:t>Es mi casa</a:t>
            </a:r>
            <a:endParaRPr b="0" lang="en-US" sz="7200" spc="1" strike="noStrike">
              <a:ln w="19080">
                <a:solidFill>
                  <a:srgbClr val="33cc33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ristina"/>
              <a:ea typeface="Pristi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080" y="2146320"/>
            <a:ext cx="6629400" cy="4300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6324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 casa es muy grande y tiene vidrio ventana en tordes p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533520" y="-882720"/>
            <a:ext cx="10287000" cy="816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371600" y="-152280"/>
            <a:ext cx="5880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2a0d95"/>
                  </a:solidFill>
                  <a:miter/>
                </a:ln>
                <a:solidFill>
                  <a:srgbClr val="2a0d95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adder ITC"/>
              </a:rPr>
              <a:t>Es mi cocina</a:t>
            </a:r>
            <a:endParaRPr b="0" lang="en-US" sz="6600" spc="1" strike="noStrike">
              <a:ln w="12600">
                <a:solidFill>
                  <a:srgbClr val="2a0d95"/>
                </a:solidFill>
                <a:miter/>
              </a:ln>
              <a:solidFill>
                <a:srgbClr val="2a0d95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0" y="4038480"/>
            <a:ext cx="4419720" cy="324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5800" y="2006640"/>
            <a:ext cx="1905120" cy="1622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2887560"/>
            <a:ext cx="1143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 ho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667560" y="144792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952880" y="2354400"/>
            <a:ext cx="167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i fregader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6404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Mi cocina es impresionate. Yo amour para cocin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685800" y="-1981080"/>
            <a:ext cx="11353680" cy="11202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590920" y="762120"/>
            <a:ext cx="4300560" cy="113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d5d000"/>
                  </a:solidFill>
                  <a:miter/>
                </a:ln>
                <a:solidFill>
                  <a:srgbClr val="d5d000"/>
                </a:solidFill>
                <a:latin typeface="Bodoni MT Condensed"/>
              </a:rPr>
              <a:t>Es mi bano</a:t>
            </a:r>
            <a:endParaRPr b="1" lang="en-US" sz="6600" spc="1" strike="noStrike">
              <a:ln w="9360">
                <a:solidFill>
                  <a:srgbClr val="d5d000"/>
                </a:solidFill>
                <a:miter/>
              </a:ln>
              <a:solidFill>
                <a:srgbClr val="d5d000"/>
              </a:solidFill>
              <a:latin typeface="Bodoni MT Condensed"/>
              <a:ea typeface="Bodoni MT Condense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0" y="3124080"/>
            <a:ext cx="4038480" cy="2781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3200" y="60357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s muy elegante y antig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600200"/>
            <a:ext cx="1857240" cy="198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9012"/>
                </a:solidFill>
                <a:latin typeface="Arial"/>
              </a:rPr>
              <a:t>Ba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2514600" cy="140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2895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f7c03"/>
                </a:solidFill>
                <a:latin typeface="Arial"/>
              </a:rPr>
              <a:t>Ja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609480" y="-3809880"/>
            <a:ext cx="11277360" cy="1127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838080" y="0"/>
            <a:ext cx="78058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Showcard Gothic"/>
              </a:rPr>
              <a:t>Mi dormitori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Showcard Gothic"/>
              <a:ea typeface="Showcard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194328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251460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09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2767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1676520"/>
            <a:ext cx="2111400" cy="2819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00800" y="464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00e2"/>
                </a:solidFill>
                <a:latin typeface="Arial"/>
              </a:rPr>
              <a:t>Estante de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371600"/>
            <a:ext cx="350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e96"/>
                </a:solidFill>
                <a:latin typeface="Arial"/>
              </a:rPr>
              <a:t>Mi dormitorio es muy grande y moderno. Es donde yo lee bueno libros y escribe mi histo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447920" y="-1052640"/>
            <a:ext cx="12420720" cy="826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62120" y="228600"/>
            <a:ext cx="80010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99ff"/>
                  </a:solidFill>
                  <a:miter/>
                </a:ln>
                <a:solidFill>
                  <a:srgbClr val="0099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urlz MT"/>
              </a:rPr>
              <a:t>Mi hermana's dormitorio</a:t>
            </a:r>
            <a:endParaRPr b="1" lang="en-US" sz="5400" spc="1" strike="noStrike">
              <a:ln w="12600">
                <a:solidFill>
                  <a:srgbClr val="0099ff"/>
                </a:solidFill>
                <a:miter/>
              </a:ln>
              <a:solidFill>
                <a:srgbClr val="0099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819520" cy="228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498760" cy="297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S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mo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72600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c911"/>
                </a:solidFill>
                <a:latin typeface="Arial"/>
              </a:rPr>
              <a:t>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e6"/>
                </a:solidFill>
                <a:latin typeface="Arial"/>
              </a:rPr>
              <a:t>Mi hermana’s dormitorio es donde ella hace tarea y donde ella ir dibuj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10363320" cy="689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666880" y="304920"/>
            <a:ext cx="359100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a20269"/>
                  </a:solidFill>
                  <a:miter/>
                </a:ln>
                <a:solidFill>
                  <a:srgbClr val="6c0e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oman"/>
              </a:rPr>
              <a:t>Mi Sala</a:t>
            </a:r>
            <a:endParaRPr b="1" lang="en-US" sz="6600" spc="1" strike="noStrike">
              <a:ln w="19080">
                <a:solidFill>
                  <a:srgbClr val="a20269"/>
                </a:solidFill>
                <a:miter/>
              </a:ln>
              <a:solidFill>
                <a:srgbClr val="6c0e9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oman"/>
              <a:ea typeface="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00400" y="3908520"/>
            <a:ext cx="2895480" cy="204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2030400" cy="2362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477120" y="3886200"/>
            <a:ext cx="2666880" cy="1996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629400" y="601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1604"/>
                </a:solidFill>
                <a:latin typeface="Arial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0879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021"/>
                </a:solidFill>
                <a:latin typeface="Arial"/>
              </a:rPr>
              <a:t>S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0879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7b60a"/>
                </a:solidFill>
                <a:latin typeface="Arial"/>
              </a:rPr>
              <a:t>Lamp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494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ff"/>
                </a:solidFill>
                <a:latin typeface="Arial"/>
              </a:rPr>
              <a:t>En mi sala mi hermana y yo juego damas y mirar television. Es lujoso y grande. Es nuevo y ordi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10210680" cy="688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905120" y="0"/>
            <a:ext cx="55054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1400"/>
                </a:solidFill>
                <a:latin typeface="Goudy Old Style"/>
              </a:rPr>
              <a:t>Mi Comedo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1400"/>
              </a:solidFill>
              <a:latin typeface="Goudy Old Style"/>
              <a:ea typeface="Goudy Old Styl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4232160"/>
            <a:ext cx="35053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010280" y="4562640"/>
            <a:ext cx="229572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657600" y="167652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33920" y="4038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F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4114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l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5715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1ff"/>
                </a:solidFill>
                <a:latin typeface="Arial"/>
              </a:rPr>
              <a:t>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20176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a00"/>
                </a:solidFill>
                <a:latin typeface="Arial"/>
              </a:rPr>
              <a:t>Mi comedor tiene Mesa,placa, y bonita flores. Mi comedor es muy com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5:40Z</dcterms:created>
  <dc:creator>simonellimic</dc:creator>
  <dc:description/>
  <dc:language>en-US</dc:language>
  <cp:lastModifiedBy>simonellimic</cp:lastModifiedBy>
  <dcterms:modified xsi:type="dcterms:W3CDTF">2012-05-22T17:18:00Z</dcterms:modified>
  <cp:revision>6</cp:revision>
  <dc:subject/>
  <dc:title>Slide 1</dc:title>
</cp:coreProperties>
</file>